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56E0E1-C7EE-463E-86CD-17E17EFD29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C44BBA67-D9D4-464A-AE59-61BA4CDE18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C1A7EF88-8232-4280-B305-C81855A6D1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C826288C-572D-45A5-9C9D-F594C35647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BA80944A-04BB-46EF-A055-3F081A6626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247EA1C3-E431-41B4-AAA7-87CC65D575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782421F2-15E0-4F12-BB13-0F73614C79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01BA319D-E6D1-48C0-8247-77ED814BE1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ADD436DC-D78A-4BEA-921C-645E048EDA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18E44129-FB97-4601-88FD-7D7E209D80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AE67FA3B-E480-4069-8D04-CEC3E06DE7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A5AB8856-1EF4-4E66-8E03-5741B7B96B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132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1146960" indent="-733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56024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97388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
        <p:nvSpPr>
          <p:cNvPr id="2" name="PlaceHolder 3"/>
          <p:cNvSpPr>
            <a:spLocks noGrp="1"/>
          </p:cNvSpPr>
          <p:nvPr>
            <p:ph type="sldNum" idx="1"/>
          </p:nvPr>
        </p:nvSpPr>
        <p:spPr>
          <a:xfrm>
            <a:off x="6327720" y="9296280"/>
            <a:ext cx="33984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925B116-061B-4372-A627-A95599E2CA6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8280" y="1638000"/>
            <a:ext cx="10466640" cy="276228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pic>
        <p:nvPicPr>
          <p:cNvPr id="40" name="pasted-image.jpeg" descr=""/>
          <p:cNvPicPr/>
          <p:nvPr/>
        </p:nvPicPr>
        <p:blipFill>
          <a:blip r:embed="rId1"/>
          <a:stretch/>
        </p:blipFill>
        <p:spPr>
          <a:xfrm>
            <a:off x="4892760" y="1409760"/>
            <a:ext cx="3217680" cy="3219480"/>
          </a:xfrm>
          <a:prstGeom prst="rect">
            <a:avLst/>
          </a:prstGeom>
          <a:ln w="0">
            <a:noFill/>
          </a:ln>
        </p:spPr>
      </p:pic>
      <p:sp>
        <p:nvSpPr>
          <p:cNvPr id="41" name="PlaceHolder 2"/>
          <p:cNvSpPr>
            <a:spLocks noGrp="1"/>
          </p:cNvSpPr>
          <p:nvPr>
            <p:ph type="subTitle"/>
          </p:nvPr>
        </p:nvSpPr>
        <p:spPr>
          <a:xfrm>
            <a:off x="1268280" y="4797360"/>
            <a:ext cx="10466640" cy="3836880"/>
          </a:xfrm>
          <a:prstGeom prst="rect">
            <a:avLst/>
          </a:prstGeom>
          <a:noFill/>
          <a:ln w="0">
            <a:noFill/>
          </a:ln>
        </p:spPr>
        <p:txBody>
          <a:bodyPr lIns="50760" rIns="50760" tIns="50760" bIns="50760" anchor="t">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600" spc="-1" strike="noStrike">
                <a:solidFill>
                  <a:srgbClr val="000000"/>
                </a:solidFill>
                <a:latin typeface="Book Antiqua"/>
                <a:ea typeface="Book Antiqua"/>
              </a:rPr>
              <a:t>Jornadas de Tribunales Fiscales</a:t>
            </a:r>
            <a:endParaRPr b="0" lang="en-US" sz="36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200" spc="-1" strike="noStrike">
                <a:solidFill>
                  <a:srgbClr val="000000"/>
                </a:solidFill>
                <a:latin typeface="Book Antiqua"/>
                <a:ea typeface="Book Antiqua"/>
              </a:rPr>
              <a:t>Panel 4: TFN - Competencia aduanera</a:t>
            </a:r>
            <a:endParaRPr b="0" lang="en-US" sz="32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800" spc="-1" strike="noStrike">
                <a:solidFill>
                  <a:srgbClr val="000000"/>
                </a:solidFill>
                <a:latin typeface="Book Antiqua"/>
                <a:ea typeface="Book Antiqua"/>
              </a:rPr>
              <a:t>“</a:t>
            </a:r>
            <a:r>
              <a:rPr b="0" i="1" lang="en-US" sz="2800" spc="-1" strike="noStrike">
                <a:solidFill>
                  <a:srgbClr val="000000"/>
                </a:solidFill>
                <a:latin typeface="Book Antiqua"/>
                <a:ea typeface="Book Antiqua"/>
              </a:rPr>
              <a:t>Ontología de las infracciones aduaneras y su repercusión procesal. El sistema híbrido del procedimiento ante el TFN</a:t>
            </a:r>
            <a:r>
              <a:rPr b="0" lang="en-US" sz="2800" spc="-1" strike="noStrike">
                <a:solidFill>
                  <a:srgbClr val="000000"/>
                </a:solidFill>
                <a:latin typeface="Book Antiqua"/>
                <a:ea typeface="Book Antiqua"/>
              </a:rPr>
              <a:t>”</a:t>
            </a: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000" spc="-1" strike="noStrike">
                <a:solidFill>
                  <a:srgbClr val="000000"/>
                </a:solidFill>
                <a:latin typeface="Book Antiqua"/>
                <a:ea typeface="Book Antiqua"/>
              </a:rPr>
              <a:t>Juan Manuel Francia</a:t>
            </a:r>
            <a:endParaRPr b="0" lang="en-US" sz="20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5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España se acuñó la teoría del “</a:t>
            </a:r>
            <a:r>
              <a:rPr b="1" lang="en-US" sz="3200" spc="-1" strike="noStrike">
                <a:solidFill>
                  <a:srgbClr val="000000"/>
                </a:solidFill>
                <a:latin typeface="Arial Narrow"/>
                <a:ea typeface="Arial Narrow"/>
              </a:rPr>
              <a:t>supraconcepto del ilícito</a:t>
            </a:r>
            <a:r>
              <a:rPr b="0" lang="en-US" sz="3200" spc="-1" strike="noStrike">
                <a:solidFill>
                  <a:srgbClr val="000000"/>
                </a:solidFill>
                <a:latin typeface="Arial Narrow"/>
                <a:ea typeface="Arial Narrow"/>
              </a:rPr>
              <a:t>”, cuya unidad se desdoblaba al ámbito penal y al sancionador administrativo (Tribunal Supremo, Sala de lo Contencioso, “Rafael de Mendizábal Allende”, 9 de febrero de 1972).</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e requiere, para ambos casos, un comportamiento humano, positivo o negativo, una antijuridicidad, la culpabilidad, el resultado potencial o actualmente dañoso y la relación causal entre éste y la acc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dicha sentencia se proclamaba la unidad esencial de ilícitos. </a:t>
            </a:r>
            <a:endParaRPr b="0"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uáles eran los antecedentes para la propuesta de solución? El creciente y descontrolado poder sancionador que estaba acumulando la Administración.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la aplicación de los principios generales del Derecho Penal al Derecho Administrativo Sancionador se limitaba el poder del Estado.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Tesis cuantitativa (no existe diferencia material entre el DP y el DAS) y Tesis cualitativa (existe diferencia material entre ambos).</a:t>
            </a:r>
            <a:endParaRPr b="0"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Tribunal Europeo de Derechos Humanos</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Oztürk” (1948): los Estados pueden establecer o mantener distinciones entre los diferentes tipos de ilícitos definidos por el derecho interno, pero no pueden intentar evitar el juego de los artículos 6 y 7 del Convenio de Roma mediante la calificación de un ilícito como administrativo en vez de penal.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Janosevic” (2002): los Estados pueden confiar en órganos administrativos la tarea de imponer sanciones, aunque sean elevadas.</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Engel” (1976): la calificación jurídica es un punto de partida formal y relativo.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Falk” (2004)</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aceptación de presunción de hecho/derecho e inversión de la carga de la prueba</a:t>
            </a:r>
            <a:r>
              <a:rPr b="0" lang="en-US" sz="1900" spc="-1" strike="noStrike">
                <a:solidFill>
                  <a:srgbClr val="000000"/>
                </a:solidFill>
                <a:latin typeface="Arial Narrow"/>
                <a:ea typeface="Arial Narrow"/>
              </a:rPr>
              <a:t>, de conformidad con el fin perseguido por el Estado (seguridad vial). Si no es posible establecer la identidad del conductor en el momento de comisión de la infracción la multa, se impone al titular del vehículo, salvo que éste pruebe que no era él quien lo conducía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Salabiaku” (1988)</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límites a la presunción de inocencia, aceptando las presunciones</a:t>
            </a:r>
            <a:r>
              <a:rPr b="0" lang="en-US" sz="1900" spc="-1" strike="noStrike">
                <a:solidFill>
                  <a:srgbClr val="000000"/>
                </a:solidFill>
                <a:latin typeface="Arial Narrow"/>
                <a:ea typeface="Arial Narrow"/>
              </a:rPr>
              <a:t>: en material penal, las presunciones de hecho o de derecho deben mantenerse dentro de ciertos límites. El actor retiró del aeropuerto (por error) un paquete que no le pertenecía. Fue controlado por agentes aduaneros y se constató que esa encomienda tenía un doble fondo con cannabis. El encuadre fue penal e infraccional. Se acudió al TEDH bajo el argumento de una presunción de culpabilidad “casi irrebatible”. El Tribunal entendió que no se había violado la presunción de inocencia ya que la posición de los tribunales franceses se desprendía del hecho material de la tenencia, situación no destruida o desvirtuada por el actor, que contó con los medios suficientes para hacerlo. “Presunción de responsabilidad rebatible”.</a:t>
            </a:r>
            <a:endParaRPr b="0" lang="en-US" sz="19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s el ejemplo más nítido de la implicancia práctica de la cuestión ontologi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Art. 1174 del Código Aduanero (CA): el procedimiento ante el TFN, en materia de infracciones, se rige </a:t>
            </a:r>
            <a:r>
              <a:rPr b="0" lang="en-US" sz="2500" spc="-1" strike="noStrike" u="sng">
                <a:solidFill>
                  <a:srgbClr val="000000"/>
                </a:solidFill>
                <a:uFillTx/>
                <a:latin typeface="Helvetica Neue"/>
              </a:rPr>
              <a:t>supletoriamente</a:t>
            </a:r>
            <a:r>
              <a:rPr b="0" lang="en-US" sz="2500" spc="-1" strike="noStrike">
                <a:solidFill>
                  <a:srgbClr val="000000"/>
                </a:solidFill>
                <a:latin typeface="Helvetica Neue"/>
              </a:rPr>
              <a:t> por el </a:t>
            </a:r>
            <a:r>
              <a:rPr b="1" lang="en-US" sz="2500" spc="-1" strike="noStrike">
                <a:solidFill>
                  <a:srgbClr val="000000"/>
                </a:solidFill>
                <a:latin typeface="Helvetica Neue"/>
              </a:rPr>
              <a:t>CPPN</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legislador reafirmó la ontología penal de las infracciones aduaneras mediante esta elección.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La acción para imponer penas se extingue por prescripción (cfr. art. 929 del CA), y su plazo es de 5 años (cfr. art. 935 del 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CA, que ostenta el doble carácter de código de fondo y código procesal, no prevé el tratamiento de oficio de la prescripción penal. Tampoco el CP ni el CPPN.</a:t>
            </a:r>
            <a:endParaRPr b="0" lang="en-US" sz="25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punto lo resuelve la cuestión ontológica: si las infracciones aduaneras tienen carácter penal, </a:t>
            </a:r>
            <a:r>
              <a:rPr b="0" lang="en-US" sz="2800" spc="-1" strike="noStrike" u="sng">
                <a:solidFill>
                  <a:srgbClr val="000000"/>
                </a:solidFill>
                <a:uFillTx/>
                <a:latin typeface="Helvetica Neue"/>
              </a:rPr>
              <a:t>y en ese terreno</a:t>
            </a:r>
            <a:r>
              <a:rPr b="0" lang="en-US" sz="2800" spc="-1" strike="noStrike">
                <a:solidFill>
                  <a:srgbClr val="000000"/>
                </a:solidFill>
                <a:latin typeface="Helvetica Neue"/>
              </a:rPr>
              <a:t> se ha interpretado que la prescripción tiene orden público, debe ser declarada de oficio y se produce de pleno derecho, parece atinado aplicar esa estructura de razonamiento en virtud del carácter sancionatorio de las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Fallos: 275:241,“Pastorino” (1969), sobre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desinterés del estado en el ejercicio de toda pretensión punitiva se presume con la inactividad evidenciada en el proceso. En ese marco, se alza la prescripción penal como garantía irreductible del ciudadano.</a:t>
            </a:r>
            <a:endParaRPr b="0" lang="en-US" sz="2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Viraje de la doctrina sentada en “García” (1939), sobre la impersonalidad de la pena (responsabilidad penal </a:t>
            </a:r>
            <a:r>
              <a:rPr b="0" i="1" lang="en-US" sz="3000" spc="-1" strike="noStrike">
                <a:solidFill>
                  <a:srgbClr val="000000"/>
                </a:solidFill>
                <a:latin typeface="Helvetica Neue"/>
              </a:rPr>
              <a:t>sui generis</a:t>
            </a:r>
            <a:r>
              <a:rPr b="0" lang="en-US" sz="3000" spc="-1" strike="noStrike">
                <a:solidFill>
                  <a:srgbClr val="000000"/>
                </a:solidFill>
                <a:latin typeface="Helvetica Neue"/>
              </a:rPr>
              <a:t> basada en el propósito fiscal - responsabilidad netamente objetiva), a “Parafina del Plata” (1968): sólo será punible quien sea culpable, precepto abrazado luego por el art. 902 del CA.</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ntrecruzamiento normativo: CA, CPCCN, CPPN y Reglamento de Procedimientos.</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l CA habla de aplicación supletoria del CPPN. El propio CA, de aplicación primaria, tiene rasgos de contradictorio civil en materia probatoria. </a:t>
            </a:r>
            <a:endParaRPr b="0" lang="en-US" sz="3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Ergo, cuidando aspectos esenciales que provienen del derecho penal, se entiende que en el derecho infraccional aduanero las presunciones legales (de hecho y de derecho) deben ser aceptadas al momento de evaluar la conducta del imputado; constituyen elementos útiles y hasta suficientes de prueba.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Materializada una presunción de acuerdo a las reglas de la sana crítica, el imputado deberá quebrarla para evitar la condena.</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De lo contrario, el derecho infraccional aduanero (que no requiere juicio oral, que no tiene intervención de querella ni de Ministerio Público Fiscal, que carece de indagatorias o autos de procesamiento) se transformaría en un compendio de normas y figuras sin diferencias sustanciales con aquellas del Código Penal.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Por ello, se afirmará, luego, que </a:t>
            </a:r>
            <a:r>
              <a:rPr b="1" lang="en-US" sz="2700" spc="-1" strike="noStrike" u="sng">
                <a:solidFill>
                  <a:srgbClr val="000000"/>
                </a:solidFill>
                <a:uFillTx/>
                <a:latin typeface="Arial Narrow"/>
                <a:ea typeface="Arial Narrow"/>
              </a:rPr>
              <a:t>la infracción no puede ser la opción que no fue.</a:t>
            </a:r>
            <a:endParaRPr b="0" lang="en-US" sz="27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Reparación integral - Debate</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Corte Suprema de Justicia de la Nación tiene dicho que a las infracciones aduaneras </a:t>
            </a:r>
            <a:r>
              <a:rPr b="1" lang="en-US" sz="2500" spc="-1" strike="noStrike">
                <a:solidFill>
                  <a:srgbClr val="000000"/>
                </a:solidFill>
                <a:latin typeface="Helvetica Neue"/>
              </a:rPr>
              <a:t>les son aplicables las disposiciones generales del Código Penal </a:t>
            </a:r>
            <a:r>
              <a:rPr b="0" lang="en-US" sz="2500" spc="-1" strike="noStrike">
                <a:solidFill>
                  <a:srgbClr val="000000"/>
                </a:solidFill>
                <a:latin typeface="Helvetica Neue"/>
              </a:rPr>
              <a:t>(“Linch” y “SAFRAR”).</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Si las disposiciones generales son entendidas como aquellas que integran el Libro Primero, no resultaría menor analizar aplicación de ley 27.147, que en el año 2015 modificó el art. 59 del CP incluyendo la extinción de la acción penal por “</a:t>
            </a:r>
            <a:r>
              <a:rPr b="0" i="1" lang="en-US" sz="2500" spc="-1" strike="noStrike">
                <a:solidFill>
                  <a:srgbClr val="000000"/>
                </a:solidFill>
                <a:latin typeface="Helvetica Neue"/>
              </a:rPr>
              <a:t>conciliación o reparación integral del perjuicio, de conformidad con lo previsto en las leyes procesales correspondientes</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problemática estaría dada no por su eventual aplicación (desde lo </a:t>
            </a:r>
            <a:r>
              <a:rPr b="0" i="1" lang="en-US" sz="2500" spc="-1" strike="noStrike">
                <a:solidFill>
                  <a:srgbClr val="000000"/>
                </a:solidFill>
                <a:latin typeface="Helvetica Neue"/>
              </a:rPr>
              <a:t>ius</a:t>
            </a:r>
            <a:r>
              <a:rPr b="0" lang="en-US" sz="2500" spc="-1" strike="noStrike">
                <a:solidFill>
                  <a:srgbClr val="000000"/>
                </a:solidFill>
                <a:latin typeface="Helvetica Neue"/>
              </a:rPr>
              <a:t> filosófico) sino por su aplicación procesal concreta.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Disposición DI-131-2023-E-AFIP-AFIP. Sólo para delitos.</a:t>
            </a:r>
            <a:endParaRPr b="0" lang="en-US" sz="25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8000"/>
          </a:bodyPr>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destinada a garantizar la observancia de imperativos leg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sos imperativos legales se encuentran, también, fuera del Código Penal.</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jemplo de ello es el Código Aduanero. No obstante, su naturaleza (ontología) es penal (sancionatoria). El art. 1174 de dicho plexo parecería reforzar esta tesitura para el caso infraccional aduanero.</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lo explica la necesidad de garantizar los límites de la potestad sancionatoria.</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Por tanto, la aplicación de aquellas garantías penales básicas constituye condición necesaria de todo régimen represivo. De lo contrario, el encasillamiento de una conducta como infracción podría resultar útil para evitar la aplicación de las garantías pen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 </a:t>
            </a:r>
            <a:r>
              <a:rPr b="0" i="1" lang="en-US" sz="2500" spc="-1" strike="noStrike">
                <a:solidFill>
                  <a:srgbClr val="000000"/>
                </a:solidFill>
                <a:latin typeface="Arial Narrow"/>
                <a:ea typeface="Arial Narrow"/>
              </a:rPr>
              <a:t>ius puniendi </a:t>
            </a:r>
            <a:r>
              <a:rPr b="0" lang="en-US" sz="2500" spc="-1" strike="noStrike">
                <a:solidFill>
                  <a:srgbClr val="000000"/>
                </a:solidFill>
                <a:latin typeface="Arial Narrow"/>
                <a:ea typeface="Arial Narrow"/>
              </a:rPr>
              <a:t>de la Administración no escapa a las limitaciones </a:t>
            </a:r>
            <a:r>
              <a:rPr b="0" lang="en-US" sz="2500" spc="-1" strike="noStrike" u="sng">
                <a:solidFill>
                  <a:srgbClr val="000000"/>
                </a:solidFill>
                <a:uFillTx/>
                <a:latin typeface="Arial Narrow"/>
                <a:ea typeface="Arial Narrow"/>
              </a:rPr>
              <a:t>medulares</a:t>
            </a:r>
            <a:r>
              <a:rPr b="0" lang="en-US" sz="2500" spc="-1" strike="noStrike">
                <a:solidFill>
                  <a:srgbClr val="000000"/>
                </a:solidFill>
                <a:latin typeface="Arial Narrow"/>
                <a:ea typeface="Arial Narrow"/>
              </a:rPr>
              <a:t> del Derecho Penal. </a:t>
            </a:r>
            <a:endParaRPr b="0" lang="en-US" sz="25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in embargo, no hay asimilación plena entre infracciones y delitos.</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icho de otro modo, </a:t>
            </a:r>
            <a:r>
              <a:rPr b="1" lang="en-US" sz="2100" spc="-1" strike="noStrike" u="sng">
                <a:solidFill>
                  <a:srgbClr val="000000"/>
                </a:solidFill>
                <a:uFillTx/>
                <a:latin typeface="Arial Narrow"/>
                <a:ea typeface="Arial Narrow"/>
              </a:rPr>
              <a:t>la infracción no puede ser la opción que no fue</a:t>
            </a:r>
            <a:r>
              <a:rPr b="0" lang="en-US" sz="2100" spc="-1" strike="noStrike">
                <a:solidFill>
                  <a:srgbClr val="000000"/>
                </a:solidFill>
                <a:latin typeface="Arial Narrow"/>
                <a:ea typeface="Arial Narrow"/>
              </a:rPr>
              <a:t>, más allá de lo que su naturaleza estrictamente requiera.</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elito e infracción no son, ergo, sinónimos.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parecería requerir el criterio de la personalidad de la pena, el análisis de oficio de la prescripción de la acción del Fisco para imponer penas, la extinción de la acción por muerte del imputado, los principios de legalidad, reserva de ley, </a:t>
            </a:r>
            <a:r>
              <a:rPr b="0" i="1" lang="en-US" sz="2100" spc="-1" strike="noStrike">
                <a:solidFill>
                  <a:srgbClr val="000000"/>
                </a:solidFill>
                <a:latin typeface="Arial Narrow"/>
                <a:ea typeface="Arial Narrow"/>
              </a:rPr>
              <a:t>in dubio pro reo,</a:t>
            </a:r>
            <a:r>
              <a:rPr b="0" lang="en-US" sz="2100" spc="-1" strike="noStrike">
                <a:solidFill>
                  <a:srgbClr val="000000"/>
                </a:solidFill>
                <a:latin typeface="Arial Narrow"/>
                <a:ea typeface="Arial Narrow"/>
              </a:rPr>
              <a:t> ley penal más benigna, etc.</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asimismo, permite establecer un procedimiento por fuera del CPPN.</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Ontología penal de las infracciones significaría que presentan el gen del derecho penal general, pero su ADN es otro.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quilibrio existencial o razonabilidad ontológica”: </a:t>
            </a:r>
            <a:r>
              <a:rPr b="1" lang="en-US" sz="2100" spc="-1" strike="noStrike">
                <a:solidFill>
                  <a:srgbClr val="000000"/>
                </a:solidFill>
                <a:latin typeface="Arial Narrow"/>
                <a:ea typeface="Arial Narrow"/>
              </a:rPr>
              <a:t>no “bajar” (o recategorizar) una conducta de delito a infracción para sancionar con mayor facilidad</a:t>
            </a:r>
            <a:r>
              <a:rPr b="0" lang="en-US" sz="2100" spc="-1" strike="noStrike">
                <a:solidFill>
                  <a:srgbClr val="000000"/>
                </a:solidFill>
                <a:latin typeface="Arial Narrow"/>
                <a:ea typeface="Arial Narrow"/>
              </a:rPr>
              <a:t>, ni “subir” (o recategorizar) una infracción a delito para castigar con excesiva severidad. </a:t>
            </a:r>
            <a:endParaRPr b="0" lang="en-US" sz="21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a ontología es aquella rama de la filosofía jurídica que trata las propiedades y rasgos trascendentales de una cuest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l hablarse de la “ontología de las infracciones aduaneras” se busca abordar la “</a:t>
            </a:r>
            <a:r>
              <a:rPr b="1" lang="en-US" sz="3200" spc="-1" strike="noStrike">
                <a:solidFill>
                  <a:srgbClr val="000000"/>
                </a:solidFill>
                <a:latin typeface="Arial Narrow"/>
                <a:ea typeface="Arial Narrow"/>
              </a:rPr>
              <a:t>esencia</a:t>
            </a:r>
            <a:r>
              <a:rPr b="0" lang="en-US" sz="3200" spc="-1" strike="noStrike">
                <a:solidFill>
                  <a:srgbClr val="000000"/>
                </a:solidFill>
                <a:latin typeface="Arial Narrow"/>
                <a:ea typeface="Arial Narrow"/>
              </a:rPr>
              <a:t>” de estas figuras para poder determinar -luego- las </a:t>
            </a:r>
            <a:r>
              <a:rPr b="1" lang="en-US" sz="3200" spc="-1" strike="noStrike">
                <a:solidFill>
                  <a:srgbClr val="000000"/>
                </a:solidFill>
                <a:latin typeface="Arial Narrow"/>
                <a:ea typeface="Arial Narrow"/>
              </a:rPr>
              <a:t>consecuencias jurídico-prácticas</a:t>
            </a:r>
            <a:r>
              <a:rPr b="0" lang="en-US" sz="3200" spc="-1" strike="noStrike">
                <a:solidFill>
                  <a:srgbClr val="000000"/>
                </a:solidFill>
                <a:latin typeface="Arial Narrow"/>
                <a:ea typeface="Arial Narrow"/>
              </a:rPr>
              <a:t> de la postura tomada.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o ontológico define, entonces, el “núcleo duro” de un tema permitiendo “balizar” el camino a seguir.</a:t>
            </a:r>
            <a:endParaRPr b="0" lang="en-US" sz="32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algún momento de la historia, la humanidad decidió reprochar conductas consideradas disvaliosas para la vida en sociedad, pero merituando -con las más disímiles varas culturales- los ilícitos.</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sí, la distinción entre delitos e infracciones responde a la necesidad de calibrar con la “sensatez” de cada paradigma (criterios religiosos, económicos, culturales, etc.) el reclam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CHURIG: distinción de Feuerbach: </a:t>
            </a:r>
            <a:r>
              <a:rPr b="1" lang="en-US" sz="3200" spc="-1" strike="noStrike">
                <a:solidFill>
                  <a:srgbClr val="000000"/>
                </a:solidFill>
                <a:latin typeface="Arial Narrow"/>
                <a:ea typeface="Arial Narrow"/>
              </a:rPr>
              <a:t>delito natural</a:t>
            </a:r>
            <a:r>
              <a:rPr b="0" lang="en-US" sz="3200" spc="-1" strike="noStrike">
                <a:solidFill>
                  <a:srgbClr val="000000"/>
                </a:solidFill>
                <a:latin typeface="Arial Narrow"/>
                <a:ea typeface="Arial Narrow"/>
              </a:rPr>
              <a:t> (ataque a los derechos subjetivos individuales, reprochable en todo tiempo y lugar) y </a:t>
            </a:r>
            <a:r>
              <a:rPr b="1" lang="en-US" sz="3200" spc="-1" strike="noStrike">
                <a:solidFill>
                  <a:srgbClr val="000000"/>
                </a:solidFill>
                <a:latin typeface="Arial Narrow"/>
                <a:ea typeface="Arial Narrow"/>
              </a:rPr>
              <a:t>delito de policía </a:t>
            </a:r>
            <a:r>
              <a:rPr b="0" lang="en-US" sz="3200" spc="-1" strike="noStrike">
                <a:solidFill>
                  <a:srgbClr val="000000"/>
                </a:solidFill>
                <a:latin typeface="Arial Narrow"/>
                <a:ea typeface="Arial Narrow"/>
              </a:rPr>
              <a:t>(moralmente neutro y variable en función de criterios políticos y sociales).</a:t>
            </a:r>
            <a:endParaRPr b="0" lang="en-US" sz="32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Por ello es que un mismo hecho puede ser motivo de infracción en algún punto del planeta y de delito en otro e, inclusive, podría pasar de ser infracción a delito en un mismo país por razones de “política (criminal)”.</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quí yace una demostración de la cuestión ontológica: tantos los delitos como las infracciones coincidirían en sus rasgos elementales, característica que permite “pivotar”.</a:t>
            </a:r>
            <a:endParaRPr b="0"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LEVENE (Arg.): “</a:t>
            </a:r>
            <a:r>
              <a:rPr b="0" i="1" lang="en-US" sz="2500" spc="-1" strike="noStrike">
                <a:solidFill>
                  <a:srgbClr val="000000"/>
                </a:solidFill>
                <a:latin typeface="Arial Narrow"/>
                <a:ea typeface="Arial Narrow"/>
              </a:rPr>
              <a:t>l</a:t>
            </a:r>
            <a:r>
              <a:rPr b="1" i="1" lang="en-US" sz="2500" spc="-1" strike="noStrike">
                <a:solidFill>
                  <a:srgbClr val="000000"/>
                </a:solidFill>
                <a:latin typeface="Arial Narrow"/>
                <a:ea typeface="Arial Narrow"/>
              </a:rPr>
              <a:t>a clasificación ‘a priori’ </a:t>
            </a:r>
            <a:r>
              <a:rPr b="0" i="1" lang="en-US" sz="2500" spc="-1" strike="noStrike">
                <a:solidFill>
                  <a:srgbClr val="000000"/>
                </a:solidFill>
                <a:latin typeface="Arial Narrow"/>
                <a:ea typeface="Arial Narrow"/>
              </a:rPr>
              <a:t>de un hecho como delito o como contravención </a:t>
            </a:r>
            <a:r>
              <a:rPr b="1" i="1" lang="en-US" sz="2500" spc="-1" strike="noStrike">
                <a:solidFill>
                  <a:srgbClr val="000000"/>
                </a:solidFill>
                <a:latin typeface="Arial Narrow"/>
                <a:ea typeface="Arial Narrow"/>
              </a:rPr>
              <a:t>es imposible</a:t>
            </a:r>
            <a:r>
              <a:rPr b="0" i="1" lang="en-US" sz="2500" spc="-1" strike="noStrike">
                <a:solidFill>
                  <a:srgbClr val="000000"/>
                </a:solidFill>
                <a:latin typeface="Arial Narrow"/>
                <a:ea typeface="Arial Narrow"/>
              </a:rPr>
              <a:t>, como también es imposible todo criterio rígido, ya que en el fondo es un problema de política criminal del Estado que se traduce en una cuestión de técnica legislativa, considerando como delito lo que hasta entonces fue contravención o viceversa, según la gravedad e importancia que se le de en un momento determinado, las razones de necesidad y utilidad práctica y el sentimiento general predominante</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NIETO (Esp.): “</a:t>
            </a:r>
            <a:r>
              <a:rPr b="0" i="1" lang="en-US" sz="2500" spc="-1" strike="noStrike">
                <a:solidFill>
                  <a:srgbClr val="000000"/>
                </a:solidFill>
                <a:latin typeface="Arial Narrow"/>
                <a:ea typeface="Arial Narrow"/>
              </a:rPr>
              <a:t>…</a:t>
            </a:r>
            <a:r>
              <a:rPr b="1" i="1" lang="en-US" sz="2500" spc="-1" strike="noStrike">
                <a:solidFill>
                  <a:srgbClr val="000000"/>
                </a:solidFill>
                <a:latin typeface="Arial Narrow"/>
                <a:ea typeface="Arial Narrow"/>
              </a:rPr>
              <a:t>están a la libre disposición del legislador</a:t>
            </a:r>
            <a:r>
              <a:rPr b="0" i="1" lang="en-US" sz="2500" spc="-1" strike="noStrike">
                <a:solidFill>
                  <a:srgbClr val="000000"/>
                </a:solidFill>
                <a:latin typeface="Arial Narrow"/>
                <a:ea typeface="Arial Narrow"/>
              </a:rPr>
              <a:t>, que puede calificar a su arbitrio una acción como delito o como infracción, de tal manera que puede hacer que lo que ayer eran infracciones administrativas, se conviertan mañana en delitos, y lo que eran ilícitos penales se conviertan de pronto en infracciones administrativas</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GOLDSCHMIDT (Ale.) reconoció, pese a su tesitura inicial, que una infracción podía convertirse en delito al elevarse de categoría determinados bienes jurídicos para mantener el orden público. </a:t>
            </a:r>
            <a:endParaRPr b="0" lang="en-US" sz="25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sas posturas abonan la teoría de la “unidad fundamental del derecho represivo” desarrollada por AFTALIÓN, quien supo remarcar que “</a:t>
            </a:r>
            <a:r>
              <a:rPr b="0" i="1" lang="en-US" sz="3100" spc="-1" strike="noStrike">
                <a:solidFill>
                  <a:srgbClr val="000000"/>
                </a:solidFill>
                <a:latin typeface="Arial Narrow"/>
                <a:ea typeface="Arial Narrow"/>
              </a:rPr>
              <a:t>…el legislador puede transformar uno en otra…</a:t>
            </a:r>
            <a:r>
              <a:rPr b="0" lang="en-US" sz="3100" spc="-1" strike="noStrike">
                <a:solidFill>
                  <a:srgbClr val="000000"/>
                </a:solidFill>
                <a:latin typeface="Arial Narrow"/>
                <a:ea typeface="Arial Narrow"/>
              </a:rPr>
              <a:t>”.</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Sin embargo, resulta de medular importancia evitar lo que JIMÉNEZ DE ASÚA llamó “ir a la caza de un fantasma”. El ilícito que ha sido bautizado como infracción debe ser tratado como tal, respetando (“sólo”) las implicancias de la coincidencia/confluencia existencial con los delitos. </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n claro romance, la elección efectuada por el legislador debe, por un lado, implicar el respeto de garantías constitucionales/penales fundamentales pero, por el otro, evitar el tratamiento de las infracciones tal como si fuesen delitos. </a:t>
            </a:r>
            <a:endParaRPr b="0" lang="en-US" sz="31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7000"/>
          </a:bodyPr>
          <a:p>
            <a:pPr marL="282960" indent="0" algn="just">
              <a:lnSpc>
                <a:spcPct val="100000"/>
              </a:lnSpc>
              <a:spcBef>
                <a:spcPts val="2701"/>
              </a:spcBef>
              <a:buNone/>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Aspecto controvertido: posición francesa de principios de siglo XX. Pallain (1912) se planteaba si las multas “en materia fiscal”, particularmente aduaneras, producto de las infracciones, constituían una pena o buscaban la reparación del daño, a raíz de una posición confusa tomada por Casación (las multas tenían el doble carácter de pena y de reparación civil).</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sto fue rechazado por los autores de la época, marcando el rasgo penal de las multas por infracciones aduaneras.</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n Argentina, la doctrina fue virando de acuerdo al rol que fue tomando la Aduana.</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1) </a:t>
            </a:r>
            <a:r>
              <a:rPr b="1" lang="en-US" sz="2100" spc="-1" strike="noStrike">
                <a:solidFill>
                  <a:srgbClr val="000000"/>
                </a:solidFill>
                <a:latin typeface="Arial Narrow"/>
                <a:ea typeface="Arial Narrow"/>
              </a:rPr>
              <a:t>Aduana como ente de recaudación</a:t>
            </a:r>
            <a:r>
              <a:rPr b="0" lang="en-US" sz="2100" spc="-1" strike="noStrike">
                <a:solidFill>
                  <a:srgbClr val="000000"/>
                </a:solidFill>
                <a:latin typeface="Arial Narrow"/>
                <a:ea typeface="Arial Narrow"/>
              </a:rPr>
              <a:t> (la principal figura infraccional de las OO. de Aduana era la defraudación, con foco en la disminución indebida de la </a:t>
            </a:r>
            <a:r>
              <a:rPr b="1" lang="en-US" sz="2100" spc="-1" strike="noStrike">
                <a:solidFill>
                  <a:srgbClr val="000000"/>
                </a:solidFill>
                <a:latin typeface="Arial Narrow"/>
                <a:ea typeface="Arial Narrow"/>
              </a:rPr>
              <a:t>renta fiscal</a:t>
            </a:r>
            <a:r>
              <a:rPr b="0" lang="en-US" sz="2100" spc="-1" strike="noStrike">
                <a:solidFill>
                  <a:srgbClr val="000000"/>
                </a:solidFill>
                <a:latin typeface="Arial Narrow"/>
                <a:ea typeface="Arial Narrow"/>
              </a:rPr>
              <a:t>). Multa como acto de reparación.</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2) </a:t>
            </a:r>
            <a:r>
              <a:rPr b="1" lang="en-US" sz="2100" spc="-1" strike="noStrike">
                <a:solidFill>
                  <a:srgbClr val="000000"/>
                </a:solidFill>
                <a:latin typeface="Arial Narrow"/>
                <a:ea typeface="Arial Narrow"/>
              </a:rPr>
              <a:t>Aduana como ente de control</a:t>
            </a:r>
            <a:r>
              <a:rPr b="0" lang="en-US" sz="2100" spc="-1" strike="noStrike">
                <a:solidFill>
                  <a:srgbClr val="000000"/>
                </a:solidFill>
                <a:latin typeface="Arial Narrow"/>
                <a:ea typeface="Arial Narrow"/>
              </a:rPr>
              <a:t> (actividad recaudadora en segundo plano). El CA tiene un abanico de infracciones orbitarias al bien jurídico tutelado por el delito de contrabando: el </a:t>
            </a:r>
            <a:r>
              <a:rPr b="1" lang="en-US" sz="2100" spc="-1" strike="noStrike">
                <a:solidFill>
                  <a:srgbClr val="000000"/>
                </a:solidFill>
                <a:latin typeface="Arial Narrow"/>
                <a:ea typeface="Arial Narrow"/>
              </a:rPr>
              <a:t>debido control aduanero</a:t>
            </a:r>
            <a:r>
              <a:rPr b="0" lang="en-US" sz="2100" spc="-1" strike="noStrike">
                <a:solidFill>
                  <a:srgbClr val="000000"/>
                </a:solidFill>
                <a:latin typeface="Arial Narrow"/>
                <a:ea typeface="Arial Narrow"/>
              </a:rPr>
              <a:t>. Multa como acto retributivo o preventivo: su carácter pecuniario no altera su naturaleza, cfr. “Wolczanski” (1967). </a:t>
            </a:r>
            <a:endParaRPr b="0" lang="en-US" sz="21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Nuestro Máximo Tribunal ha dictado varios fallos al respecto, validando la naturaleza penal de las infracciones aduaneras y afirmando, por ende, la aplicación de ciertos criterios e institutos típicos del derech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Reseñando los distintos precedentes se puede delimitar la repercusión de la ontología (penal) de las infracciones (aduaneras).</a:t>
            </a:r>
            <a:endParaRPr b="0" lang="en-US" sz="32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 </a:t>
            </a:r>
            <a:r>
              <a:rPr b="1" lang="en-US" sz="2500" spc="-1" strike="noStrike">
                <a:solidFill>
                  <a:srgbClr val="000000"/>
                </a:solidFill>
                <a:latin typeface="Arial Narrow"/>
                <a:ea typeface="Arial Narrow"/>
              </a:rPr>
              <a:t>distinción entre delitos y contravenciones no tiene base cierta</a:t>
            </a:r>
            <a:r>
              <a:rPr b="0" lang="en-US" sz="2500" spc="-1" strike="noStrike">
                <a:solidFill>
                  <a:srgbClr val="000000"/>
                </a:solidFill>
                <a:latin typeface="Arial Narrow"/>
                <a:ea typeface="Arial Narrow"/>
              </a:rPr>
              <a:t> que pueda fundarse en la distinta naturaleza jurídica de cada orden de infracciones para establecer un criterio seguro que permita distinguirlos</a:t>
            </a:r>
            <a:r>
              <a:rPr b="1" lang="en-US" sz="2500" spc="-1" strike="noStrike">
                <a:solidFill>
                  <a:srgbClr val="000000"/>
                </a:solidFill>
                <a:latin typeface="Arial Narrow"/>
                <a:ea typeface="Arial Narrow"/>
              </a:rPr>
              <a:t> </a:t>
            </a:r>
            <a:r>
              <a:rPr b="0" lang="en-US" sz="2500" spc="-1" strike="noStrike">
                <a:solidFill>
                  <a:srgbClr val="000000"/>
                </a:solidFill>
                <a:latin typeface="Arial Narrow"/>
                <a:ea typeface="Arial Narrow"/>
              </a:rPr>
              <a:t>(“Castell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llamada a garantizar la observancia de la norma, y </a:t>
            </a:r>
            <a:r>
              <a:rPr b="1" lang="en-US" sz="2500" spc="-1" strike="noStrike">
                <a:solidFill>
                  <a:srgbClr val="000000"/>
                </a:solidFill>
                <a:latin typeface="Arial Narrow"/>
                <a:ea typeface="Arial Narrow"/>
              </a:rPr>
              <a:t>es del arbitrio del legislador el determinar la naturaleza civil, administrativa o penal de aquélla</a:t>
            </a:r>
            <a:r>
              <a:rPr b="0" lang="en-US" sz="2500" spc="-1" strike="noStrike">
                <a:solidFill>
                  <a:srgbClr val="000000"/>
                </a:solidFill>
                <a:latin typeface="Arial Narrow"/>
                <a:ea typeface="Arial Narrow"/>
              </a:rPr>
              <a:t>, en función del valor que con la norma se pretenda resguardar (“Allegr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A las infracciones aduaneras </a:t>
            </a:r>
            <a:r>
              <a:rPr b="1" lang="en-US" sz="2500" spc="-1" strike="noStrike">
                <a:solidFill>
                  <a:srgbClr val="000000"/>
                </a:solidFill>
                <a:latin typeface="Arial Narrow"/>
                <a:ea typeface="Arial Narrow"/>
              </a:rPr>
              <a:t>les son aplicables las disposiciones generales del Código Penal </a:t>
            </a:r>
            <a:r>
              <a:rPr b="0" lang="en-US" sz="2500" spc="-1" strike="noStrike">
                <a:solidFill>
                  <a:srgbClr val="000000"/>
                </a:solidFill>
                <a:latin typeface="Arial Narrow"/>
                <a:ea typeface="Arial Narrow"/>
              </a:rPr>
              <a:t>(“Linch” y “SAFRAR”).</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Sólo puede ser reprimido quien sea culpable, es decir, </a:t>
            </a:r>
            <a:r>
              <a:rPr b="1" lang="en-US" sz="2500" spc="-1" strike="noStrike">
                <a:solidFill>
                  <a:srgbClr val="000000"/>
                </a:solidFill>
                <a:latin typeface="Arial Narrow"/>
                <a:ea typeface="Arial Narrow"/>
              </a:rPr>
              <a:t>atribución objetiva y subjetiva de la acción punible</a:t>
            </a:r>
            <a:r>
              <a:rPr b="0" lang="en-US" sz="2500" spc="-1" strike="noStrike">
                <a:solidFill>
                  <a:srgbClr val="000000"/>
                </a:solidFill>
                <a:latin typeface="Arial Narrow"/>
                <a:ea typeface="Arial Narrow"/>
              </a:rPr>
              <a:t> (“Linch”, “SAFRAR”, “Bigio”, “Rozenbaum” y “PARAFINA DEL PLATA”).</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s multas aduaneras no tienen carácter indemnizatorio (“Bigio”). </a:t>
            </a:r>
            <a:r>
              <a:rPr b="1" lang="en-US" sz="2500" spc="-1" strike="noStrike">
                <a:solidFill>
                  <a:srgbClr val="000000"/>
                </a:solidFill>
                <a:latin typeface="Arial Narrow"/>
                <a:ea typeface="Arial Narrow"/>
              </a:rPr>
              <a:t>Su carácter pecuniario no altera su índole punitiva</a:t>
            </a:r>
            <a:r>
              <a:rPr b="0" lang="en-US" sz="2500" spc="-1" strike="noStrike">
                <a:solidFill>
                  <a:srgbClr val="000000"/>
                </a:solidFill>
                <a:latin typeface="Arial Narrow"/>
                <a:ea typeface="Arial Narrow"/>
              </a:rPr>
              <a:t> (“Wolczanski”).</a:t>
            </a:r>
            <a:endParaRPr b="0" lang="en-US" sz="25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